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29B-9D42-4683-9D47-CE2EE7E8F9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админитс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1BE7-FD40-461B-9FA3-1F8D920318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541-E2C3-4454-ADFD-BF4D33F6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F6A-71B3-46D8-B622-44986E04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3BD4E-BE9E-4E1C-83A5-76711D09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4D04D-5417-44C8-A3CB-939B6C2B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D21A7-1FEC-440E-BC82-0055EFE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7E7D3-B7AC-43BB-9B30-A4EFF80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62443-C9E9-42A3-AB61-57ED084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0C8356-B749-4B52-B696-8AA81F6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CD3BA0-559D-48EE-9B7F-B646FFF0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63BF4-B106-4E52-884C-0F556D3D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78AF3-DE4B-4FFA-8DCF-8124EEFF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47503-045C-4601-82FA-CCC50435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745-D8CF-411F-AB03-55E0C80F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83DC8-02B9-4A3B-AEDA-B5B4ADB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6CCF9-CDE9-4203-981A-90D9B8D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A451F-C8E2-444B-A5CF-9934A05F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9212-6BC8-42E4-89D0-796BF10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8A94E-5913-4A9A-837A-001E0A7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65280-D1BE-4158-88C5-7AC7F177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BF108-39B8-4E8B-8080-7CB1B11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37DE1-3FF5-4F47-B3E9-105312B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12B76-214C-4882-A0D0-9F27607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21A48-A9E5-4DFC-A9E3-EB8AA03E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7D4-7EA6-49EE-87A7-19B92960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E0A9E-C7B4-43FD-BE98-E760AA8E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99B21-73F7-4DC1-A251-DDF4E0D5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D69F0-99AC-48EB-877F-EC1B6D58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FF83-03D4-4206-897E-E9A6E71B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069DF-AF26-44F4-82EE-844A314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8EB3E-6C8F-470D-A8AD-36EB5094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525AC-0024-4582-B989-FAACF62B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C4F90-AA0A-425F-8190-9265A37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E1C5-054C-4C3B-92AD-B557CB1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1F399-96B4-449C-ACB6-78BFD37D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9F90-C9A3-45D8-AEFD-9CAD3CE9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F222C-1D67-4A75-973E-12799408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5689D-668E-4408-90F1-AC115A8C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C1B1-7859-46E6-9524-8849D62D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EC3C6-0FF2-4A24-B615-3D7E0E5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C04EF-0DFB-4A9A-9F1F-4F7B41E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D7AED-B075-4C14-81CF-7CCAF9E6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C8E5B-CA95-4753-9BFE-13AE39B4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F9219-75A3-4466-805E-28F31D0D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4A20-ADF5-4068-BD54-A0EB0FF2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A6DCE-573C-442D-94CF-B3571BF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7F8-527C-4281-B3FD-E1CAE208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1B198-6596-47F3-87B6-9AB3A3CE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26942-8EA7-4BFF-8133-322F9F21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01CE5-E1FC-49F8-B0F2-7D9DEDD8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4CD22-4DEC-4C73-809D-29881400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2A183-1998-44F5-8EE3-37C287DB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F3909-5798-4F2B-A796-85CD0110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66A728-DBF2-4822-ACF0-A4DD7BC1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1B11E-75C5-443E-AFD4-EAF58230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55926-0674-4C93-B8B4-DC34480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246CA-B135-4678-AE19-AAF7CFA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E031-E6A4-4B8C-99E8-08A799B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58938-74C0-48B3-8432-EAC462D9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833CD-EE8D-4E5F-9776-397E3BF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C77FF-BA76-4733-B06C-92CC348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ABC34-E15B-476F-A032-EA31AD5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7EE94-78DF-469A-B642-BE4ED6C9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71FF1-CF80-4FE5-8498-1BDC1997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5B9FC-922B-4D85-A939-FA5EF852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207AB-B270-474B-9D72-62FD015E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1B5A2-1C96-4A4E-A9CF-398C3D48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A14AA-F848-4815-A33F-A52741A6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B47-6112-497F-8E1D-CEE91304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110D2-3BF7-4325-AD2A-35A1C3CB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B846B-79BA-48F7-B8BB-95A66C39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0FBA0-F4F1-44BA-909E-0A14A143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BE0D2-B098-4B18-BDA6-65CE405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00F6E-61EA-4CAE-A709-15D6CAF2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EC9CD-BF91-45CB-8B88-7C8BD8C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EFE58-7D33-45B0-8F80-820D32E9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ABA2E-602F-47E3-9DC5-B9B157FE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49598-2D52-4480-8DDA-0F96981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92345-2C21-4001-9288-96C88A91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4E23-286F-4BA9-9A19-01C20577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411DA-140A-422B-84D2-1A90692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503C6-545F-44FB-99BB-AF1FD2C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D8DBA-DC9B-4243-BD16-7281AA4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B09BA-A994-4B26-8509-A46092FA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2D896-3DD3-4ABD-93DB-CBBD9E1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888A9-93F6-470A-A589-A988ABF1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D62DE-2566-4C1B-915D-22CAF53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1009D-0621-476F-AA33-54DAE79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34DFB-1C04-4684-B26D-5E43BA00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EDAE2-01FF-4BEF-AC53-B25CA303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FE64-E3A1-49F1-B9DA-41CA413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C713F-DF4C-4D9E-9CC8-05BD7779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1C71-BBED-4940-A70A-9D9607F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227-74E3-4839-A774-D9BF2E8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A97-7C94-4C4B-A25A-1B254345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DD75-7D80-4666-B3B1-106678F3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0686-81F1-45B4-8A96-1D622D70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1A6B-D146-4DD7-87CA-A097EE5E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46B8-494E-483B-A6DD-3DF4C90C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CA75-AF35-47CA-8697-AAD7FFA2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15C1-915E-4986-98E3-33A21A79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452B-0ADF-4F9D-97CF-95B8ACCA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3EDE-7ADF-44D5-A8B0-D131C189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C7BE-27E3-430E-ABDE-149E691D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046-362D-4956-82F6-79BD519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4D27-FF3F-4AE8-BD21-854C2C21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16EC-2DCE-4F81-8392-EF04225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3FAC9-3C54-43D6-8CBB-7FCBF5B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AAF6-082C-4502-9047-8B5B03B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462D-7723-4696-83A2-4DA1B946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033A-B14E-47DF-BA6A-E02A19FD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DBB2-3FA8-4A9C-9E2B-8416F800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9BEB3-2908-438B-98D4-1EC75F6F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249A-813A-4007-82DD-EA55745D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7093-0C1D-468E-AD21-E6C7D653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8DB-C6CD-4A7E-8A25-027336B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95E3-882E-45C6-93B0-DC2AA841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BA69-8DCF-44C3-BC50-087CE5E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476DE-863C-456A-9751-08F71A7D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11EAB-D1CD-4D32-BB73-FE0419A4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B2B82-9F7E-4FAE-8D57-32D894C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38453-B99F-49D0-80FA-B95459B7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EFEE-5A86-4BC9-B425-B6146F2A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9325-EA2B-4818-BBD5-F2650D0F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F173-B83D-4FAE-BA85-34CBF573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88811-0C8D-4F70-9085-2D534076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991-16E5-4CC5-B4F0-F578711B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7492C-1895-432D-B434-A20D4685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55968-7004-43A8-9D75-0835E898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97323-868B-4637-8E17-472746BC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E9638-E79B-4DC9-B8EA-5D6E1A7A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32A04-6EB7-4B51-850F-129C389E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E9347-CB45-4494-9D94-D2DEDC7C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9DA85-4D2D-4A88-A7D7-07A42A0E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6C86A-B356-44E7-9207-5B73BC3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2DBA9-D9DE-413B-968D-309B352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F816D-F25E-424A-A364-0853A7CC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993-D66E-46DC-982F-0292539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6FA05-24F0-4F68-AEC0-020D2CE7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5FDF9-4B6D-4449-A873-0EAFFD0E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56373-8881-4247-8F2E-1F12FD1D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7383A-266F-46E0-BE09-60A31A2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A6552-17D1-42F2-93C5-173812A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45CA-F4BE-4ED3-9139-7E6F21FC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B7330-215B-46C2-90F7-505ACEB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F6367-9FDC-4E46-8F45-E5599DB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B0F9-6153-416D-8EF1-05C2D83D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10D7C-1F0F-4631-9AA8-93F8F460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AED-662E-446D-ADD6-0F61E58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0E23-C646-4474-8519-DE7D26F8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B3A6-B56A-4D67-8C72-29A4FD7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54F6-5E35-444E-B3E2-AB6FC7C7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4BBE5-72CB-4CFF-9AB8-343D4D61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42E50-D87E-49FA-A52B-B9580D93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B7202-7AA3-4F0F-B38B-2585E9E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3909D-82A1-4E0E-9ACC-03262D6D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8EF3C-E1A9-4B98-A80C-D53DD6FE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7B128-BE19-4E45-9017-B316956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E8830-F491-4FD3-8516-401AC2E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000-5F62-499A-A7A8-3C6E140A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E92FC-305D-4053-AFAF-A58A466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F2467-259A-4A33-85E7-0B70B51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2C324-6C60-4F90-9341-13DBFB73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2E206-8B7D-43CA-8890-A992EE7A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1742B-3139-423A-A995-F8F39652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0BB47-37B7-406A-B258-A8EEB262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EE997C-0D56-4429-8EE6-251DC6E9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560AD-3689-45EE-B089-754300F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64F502-A07D-4D17-9CFB-E4C93667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5FA3B-0CDC-4414-9F9E-FF69076B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DC2-76D0-4368-90D1-DAD2489F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CFFFB-2981-4E27-98F2-48BF5632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C3D87C-3EE9-4A29-A6BD-BB9C4D87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7BE69-9380-4C56-A047-384BD7CF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A4B03-CAEB-4E40-93EA-17AE5D8E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ED75C-7C7D-4D9D-90BC-FB39AA5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F84AE-CE06-4EB1-B12E-50230EA1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E8815-722F-4CDF-B01E-7034B8D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D0BA89-E465-470A-8D4C-AB5A631D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7B8BD8-1E68-4560-9CD8-D697A6C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A1A437-1A46-4CEB-BA49-D0655DF3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1438-C47B-4BAC-92F1-6154692A82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5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45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5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5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6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6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864-F95B-4344-A8E7-0074A03FB7F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0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0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1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1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1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4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15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17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18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0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2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22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A2BA-F44D-4E8D-BCAA-B42FB3F3242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6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68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69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72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73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CBE5-1EA5-4EDD-A740-C38AC4BE864C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1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19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20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2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23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24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13DD-65B4-4419-9B92-887C8BDD293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6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7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7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7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7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7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68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8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8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1F64-24F5-456A-B03F-BA0E5B86B693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2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73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3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73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3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E5C6-ECB9-4BEC-9D51-4A0D0FDE464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5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4870-36EF-4B3A-AD13-CB04965B0FC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101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2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05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E18-4389-4FDA-BC34-AA4CBDB4892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1F4-D61E-475B-8A35-4BC5D7E8DC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E5BA-8D94-43F2-A176-EC053B74D1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B0A-55AD-41B5-91D5-0DEA16A084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29D-4D2F-4742-A325-F3233DCA11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3F39-1F19-4987-B47B-674C0D9BD2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0A86-9603-40BD-97BB-547468C42B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ВЕНЦИЯ О ПРАВАХ РЕБЕНК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1280" y="1125360"/>
            <a:ext cx="813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нимают все возможные усилия к тому, чтобы обеспечить признание принципа общей и одинаков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тветственности обоих родителе за воспитание и развитие ребенка. Родители или в соответствующих случаях опекуны несут основную ответственность за воспитание и развитие ребенка. Наилучшие интересы ребенка являются предметом их основной забо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Статья 2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осударства – участники признают право ребенка на образование, и с целью постепенного достижения этого права на основе равных возможносте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Заголовок 1" descr=""/>
          <p:cNvPicPr/>
          <p:nvPr/>
        </p:nvPicPr>
        <p:blipFill>
          <a:blip r:embed="rId1"/>
          <a:stretch/>
        </p:blipFill>
        <p:spPr>
          <a:xfrm>
            <a:off x="438120" y="920880"/>
            <a:ext cx="8516880" cy="539424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 txBox="1"/>
          <p:nvPr/>
        </p:nvSpPr>
        <p:spPr>
          <a:xfrm>
            <a:off x="539280" y="404640"/>
            <a:ext cx="84250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гласно Закону, Вы имеете право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Заголовок 1" descr=""/>
          <p:cNvPicPr/>
          <p:nvPr/>
        </p:nvPicPr>
        <p:blipFill>
          <a:blip r:embed="rId1"/>
          <a:stretch/>
        </p:blipFill>
        <p:spPr>
          <a:xfrm>
            <a:off x="725400" y="1231920"/>
            <a:ext cx="7954920" cy="49370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 txBox="1"/>
          <p:nvPr/>
        </p:nvSpPr>
        <p:spPr>
          <a:xfrm>
            <a:off x="1143000" y="731880"/>
            <a:ext cx="746136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гласно Закону Вы имеет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ОНСТИТУЦИЯ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 38 ч.2 Забота о детях, их воспитание – равное право и обязанность родител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т.43.ч.4 Основное общее образование обязательно. Родители или лица, их заменяющие, обеспечивают получение деть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ЕМЕЙНЫЙ КОДЕКС РФ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атья 61 Равенство прав и обязанностей родите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и имеют равные права и несу равные обязанности в отношении своих дет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Родительские права прекращаются  по достижению детьми возраста 18 лет, а также при вступлении несовершеннолетних в брак и в других установленных законом случаях приобретения детьми полной дееспособности до достижения ими совершеннолет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И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. 63 Права и обязанности родителей по воспитанию  и образованию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аво и обязаны воспитывать свои детей. Они обязаны заботиться о здоровье, физическом, психическом духовном, нравственном развитии своих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имеют преимущественное право в воспитании своих детей перед другими лица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 обеспечить  получение детьми основного общего образования и создать условия для получения им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с учетом  мнения детей имеют право выбора образовательного учреждения и формы обучения детей до получения ими основно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АВА ОБЯЗАННОСТИ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4 Права и обязанности родителе по защите прав и интересов дете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Защита прав и интересов детей возлагается на их родителей. Родители являются законными представителями детей и выступают в защиту их прав и интересов в отношениях с любыми  физическим и и юридическими лицами, в том числе в судах, без специальных полномочи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5. Осуществление родительских пра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Родительские права не могут осуществляться  в противоречии с интересами детей. Обеспечение интересов детей должно предметом  основной заботы родителей. При осуществлении родительских прав родители не должны причинять вред физическому и психическому здоровью детей. Способы воспитания детей должны исключать пренебрежительное, жестокое, грубое, унижающее человеческое достоинство отношение, оскорбление или эксплуатацию детей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ЕМЕЙНО – ПРАВОВ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69 Лишение родительских пр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 (один из них) могут быть лишены родительских прав если о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клоняются от выполнения родительских обязанностей, в том числе при злостном уклонении от уплаты алиментов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лоупотребляют родительскими права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стоко обращаются с детьми, в том числе применяют физическое и психическое насилие над ними, покушаются на половую неприкосновен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или умышленное преступление против жизни и здоровья детей  или супруг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5.3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 содержанию, воспитанию, обучению, защите прав и интересов несовершеннолетних – ведет предупреждение или наложение административного штрафа в размере от одного до пяти минимальных размеров оплаты труд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МИНИСТРАТИВНАЯ ОТВЕТСТВЕННОСТЬ РОДИТЕЛЕЙ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6840" y="160020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20.22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несовершеннолетних, а равно распитие ими алкогольной и спиртосодержащей продукции, потребление ими наркотических средств или психотропных веществ в общественных мест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явление в состоянии алкогольного опьянения в возрасте шестнадцати лет, а равно и распитие ими алкогольной и спиртосодержащей продукции, потребление наркотических средств на улицах, стадионах, скверах,в других общественных местах – влечет наложение административного штрафа на родителей или законных представителей несовершеннолетних в размере от трех до пяти минимальных окладов оплаты труда. Ответственность по данной статье за подростков до 16 лет лежит на родителя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ОН «ОБ ОБРАЗОВАНИИ В РОССИЙСКОЙ ФЕДЕРА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атья 44 Права, обязанности и ответственность в сфере образования родителей (законных представителей) несовершеннолетни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одители(законные представители) обучающихся обязан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ить получение детьми общего образования (согласно закону общее образование является обязательным  до достижения ребенком возраст18 ле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блюдать Правила внутреннего распорядка организации, осуществляющей образовательную деятельно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важать честь и достоинство обучающихся и работников организации , осуществляющей образовательную деятельность (права Закон стр. 58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04:56Z</dcterms:created>
  <dc:creator>школа №5</dc:creator>
  <dc:description/>
  <dc:language>en-US</dc:language>
  <cp:lastModifiedBy>алиса</cp:lastModifiedBy>
  <dcterms:modified xsi:type="dcterms:W3CDTF">2016-11-02T05:43:01Z</dcterms:modified>
  <cp:revision>10</cp:revision>
  <dc:subject/>
  <dc:title>Конвенция о правах ребенка</dc:title>
</cp:coreProperties>
</file>